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548-6B54-4009-AB9A-DC5AB13B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A156-D7A9-4702-ABCA-406542BB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44F-2D8E-499E-92F0-D31B48D0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B8A-40A3-486B-9939-68D3914D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3B97-BD63-4A60-BAD8-2A7F80EE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FA1-5DA8-4153-B380-36A55FFA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569-527F-4B4D-950F-ACABA013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FD1B-0B9A-4FC1-B42C-4D43EB76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E39-2964-4FA7-BC71-5F2FC779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BE4C-460F-498B-A207-2CDBB2FF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F85-39EF-4EA8-BF8B-52311CB3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B463-D02B-45DF-BF03-2628C5D0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9B863-C123-46CE-918F-150347DE71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17E17-CAC6-480F-A9D3-52E9CE825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1:11:24Z</dcterms:created>
  <dc:creator>Jim Sullivan</dc:creator>
  <dc:description/>
  <dc:language>en-US</dc:language>
  <cp:lastModifiedBy>Jim Sullivan</cp:lastModifiedBy>
  <dcterms:modified xsi:type="dcterms:W3CDTF">2013-06-25T21:26:07Z</dcterms:modified>
  <cp:revision>1</cp:revision>
  <dc:subject/>
  <dc:title>Slide 1</dc:title>
</cp:coreProperties>
</file>