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7B2-2E0E-4E5D-B818-1AC2CCCC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4D7-1671-4516-9911-BFCA8AD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BB5-AB28-4D36-A958-F720E9E4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7B7-BB99-42D5-A63B-2C18E1D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428-7B57-4A30-AA04-C3AC6D88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E05-6F7A-4167-99A4-4CE6D5E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772-F135-4BEB-B228-080FF32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E88-1281-4789-89C1-0AF1E13C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3D3-36C9-461B-B9B6-C3A68198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E92-AB06-4A5D-92D0-24AABE4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606-1DF4-4404-B91D-A604572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2E0-0847-4E0E-97FD-46573A2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80AEE-DB49-405E-852C-A978D2B2B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E774A-0142-494F-8072-3C5E02D80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lid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slide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slide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lid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slide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slide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lide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slide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lide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20:57:44Z</dcterms:created>
  <dc:creator>Jim Sullivan</dc:creator>
  <dc:description/>
  <dc:language>en-US</dc:language>
  <cp:lastModifiedBy>Jim Sullivan</cp:lastModifiedBy>
  <dcterms:modified xsi:type="dcterms:W3CDTF">2013-05-13T21:08:39Z</dcterms:modified>
  <cp:revision>2</cp:revision>
  <dc:subject/>
  <dc:title>Slide 1</dc:title>
</cp:coreProperties>
</file>