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FF6-B65F-461C-B2E5-0DB69387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EEA-6B7F-4F34-BBDC-47732246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9E0-FE04-4CC2-AF67-E0ED828F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D9C-286A-440A-938C-DF4BB1C2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B36-554E-425C-8996-FD538B01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33E-122B-422E-9C8A-4ED3208C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37F-B483-4D7E-95BA-8B0405C6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907-6CF0-41F6-92F7-9B20FD71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6A2-F810-4D19-A018-C306834D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07E-8BFD-469A-BD87-A5DAF1F1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3F6-F8BC-48DD-AA52-CCCB4625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29A-1B06-4A95-AA10-894BA08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6EDA-E488-4ABC-B0D8-77C325F9F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•PIN • 1x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100x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0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GWEED POLLEN • 80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 1000x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YMPHOCYTE • 2000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D BLOOD CELL • 4000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KER’S YEAST • 6000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. COLI • 8000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10,000 X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PHYLOCCOUS • 20,000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,000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0,000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BOLA • 80,000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100,000 X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,000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0,000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HINOVIRUS • 600,000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0,000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1,000,000 X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10x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IR • 2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936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UST MITE• 6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07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6:43:45Z</dcterms:created>
  <dc:creator>Gail Sullivan</dc:creator>
  <dc:description/>
  <dc:language>en-US</dc:language>
  <cp:lastModifiedBy>Gail Sullivan</cp:lastModifiedBy>
  <dcterms:modified xsi:type="dcterms:W3CDTF">2007-09-14T13:06:46Z</dcterms:modified>
  <cp:revision>47</cp:revision>
  <dc:subject/>
  <dc:title>PowerPoint Presentation</dc:title>
</cp:coreProperties>
</file>