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3EBE-A865-4B0A-9A3B-67C782F6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7765-C1F4-4BBF-BD0C-00FF67E1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2662-3902-4584-9EB9-6B84B70A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CAB2-5DED-4AE3-887A-5D2C11C6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8D82-2808-43FA-85DE-7E502502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98E2-9575-46FB-89E1-89629410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8D0D-D6D8-455D-AD52-A01F437D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F1A7-C56A-4311-8024-330A0580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3FE9-C1FA-4E46-8557-1700038A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79C9-9626-4367-B7F8-E0E49BDA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322C-0A9B-4CC2-8249-4FAC740C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2740-0350-4275-B7EB-055BA588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226D-354A-478E-87F7-391C3650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8331-ACE4-4B43-9126-A7C7FDC4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85C2-79EB-4B49-B6E0-9CE2CC5A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8053-2194-4D0F-91B3-F07E0F3A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6543-8A34-49FB-839D-86647115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433E-69C3-4AD0-AFF2-2C3B0472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4CA9-432E-4085-A496-D2562132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9285-E512-4E51-A5C4-E78A68A8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02DA-2302-499B-90C9-0CDC2D4C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1F3A-A4EB-4183-AFFB-EE2256F8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4C8C-05BA-4D5A-86EF-365FC03A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5A14-5F1D-42B1-97E1-7577BCDA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B9C0-B7C6-4CB1-ACAF-E224D79AC1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8F1C-9B96-4277-9DEE-C6A862BBA7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rijuan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ocaineHydrochloridePowder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en.wikipedia.org/wiki/Image:Crack_street_dosage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silocybe_semilanceat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Image:Timbres_impr&#233;gn&#233;s_de_LSD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rugs and Alcoho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 Awareness Progra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eveloped by Officer Mark Childers &amp; MPO Gary Zorn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ght at scho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spended for 20 school days which can be reduced to 10 days if you attend a drug/alcohol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can use of tobacco lead to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teway drug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ijuana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fects on Mind/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ressant/Hallucino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C Leve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A Cannabis sativa pla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4521240"/>
            <a:ext cx="2743200" cy="213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ght at scho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session- Suspended for 20 school days which can be reduced to 10 days if you attend a drug/alcohol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aling – Suspended for 90 school days which can not be redu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al Consequ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rijuan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Misdemean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il/ Up to 90 d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e/ Up to $1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driver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 license until 2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 Marijuana just a pla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gs to think ab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al Consequ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y other drug other than Marijuan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Felo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il/ Up to 5 y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e/ Up to $1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cense/ No license until 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ght at scho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session- Suspended for 20 school days which can be reduced to 10 days if you attend a drug/alcohol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aling – Suspended for 90 school days which can not be reduc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ca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wder or Cra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mul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5" descr="A pile of Cocaine hydrochlori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09680"/>
            <a:ext cx="3048120" cy="1981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 pile of crack cocaine ‘rocks’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267080"/>
            <a:ext cx="1989000" cy="221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allucino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SD/Ac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CP/Angel D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ilocybin Mushroo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cst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A handful of freshly picked Psilocybe semilanceata, sometimes referred to as Liberty Cap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4648320"/>
            <a:ext cx="2324160" cy="1881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Perforated blotter paper impregnated with LSD, as illustrated above, is one popular form of dispensing the drug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2514600"/>
            <a:ext cx="2857680" cy="19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cription Med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can take i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dil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MPj03988450000[1]"/>
          <p:cNvPicPr/>
          <p:nvPr/>
        </p:nvPicPr>
        <p:blipFill>
          <a:blip r:embed="rId1"/>
          <a:stretch/>
        </p:blipFill>
        <p:spPr>
          <a:xfrm>
            <a:off x="5334120" y="3886200"/>
            <a:ext cx="3429000" cy="244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rse 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miliarize students with risks and consequences associated with use of drugs and alcoh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hal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ff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ned air, model glue, buta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hamphetamine (Meth) Is A Powerfully Addictive Stimulant That Has A High Potential For Abuse And Dramatically Affects The Central Nervous Syste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photo_8"/>
          <p:cNvPicPr/>
          <p:nvPr/>
        </p:nvPicPr>
        <p:blipFill>
          <a:blip r:embed="rId1"/>
          <a:stretch/>
        </p:blipFill>
        <p:spPr>
          <a:xfrm>
            <a:off x="0" y="0"/>
            <a:ext cx="9144000" cy="709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3" descr="photo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photo_2"/>
          <p:cNvPicPr/>
          <p:nvPr/>
        </p:nvPicPr>
        <p:blipFill>
          <a:blip r:embed="rId1"/>
          <a:stretch/>
        </p:blipFill>
        <p:spPr>
          <a:xfrm>
            <a:off x="-228600" y="63360"/>
            <a:ext cx="9372600" cy="679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4" descr="photo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0" name="Picture 3" descr="photo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photo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4" descr="photo_5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Picture 3" descr="photo_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4" descr="photo_12"/>
          <p:cNvPicPr/>
          <p:nvPr/>
        </p:nvPicPr>
        <p:blipFill>
          <a:blip r:embed="rId1"/>
          <a:stretch/>
        </p:blipFill>
        <p:spPr>
          <a:xfrm>
            <a:off x="0" y="0"/>
            <a:ext cx="9144000" cy="7156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4" descr="photo_6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ro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f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y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4" descr="MCj02933920000[1]"/>
          <p:cNvPicPr/>
          <p:nvPr/>
        </p:nvPicPr>
        <p:blipFill>
          <a:blip r:embed="rId1"/>
          <a:stretch/>
        </p:blipFill>
        <p:spPr>
          <a:xfrm>
            <a:off x="6400800" y="2743200"/>
            <a:ext cx="1436760" cy="182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k Bite La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y gross pic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6477120" cy="716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7520" y="-174600"/>
            <a:ext cx="9052200" cy="720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4" descr="sharkbite1"/>
          <p:cNvPicPr/>
          <p:nvPr/>
        </p:nvPicPr>
        <p:blipFill>
          <a:blip r:embed="rId1"/>
          <a:stretch/>
        </p:blipFill>
        <p:spPr>
          <a:xfrm>
            <a:off x="49320" y="-176040"/>
            <a:ext cx="9047160" cy="721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4" descr="sharkbite"/>
          <p:cNvPicPr/>
          <p:nvPr/>
        </p:nvPicPr>
        <p:blipFill>
          <a:blip r:embed="rId1"/>
          <a:stretch/>
        </p:blipFill>
        <p:spPr>
          <a:xfrm>
            <a:off x="0" y="0"/>
            <a:ext cx="9040680" cy="721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coh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ly Used by te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g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ot of kids die every year from alcohol related incid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most common and easiest drug for kids to ge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ngers of Alcohol Us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of enzymes to break it d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ot word of intoxication is 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xic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cohol Pois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1371600" y="6019920"/>
            <a:ext cx="624852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0" y="5791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4038480" y="49528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447920" y="5257800"/>
            <a:ext cx="6324480" cy="763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04920" y="4952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0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4038480" y="33526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447920" y="4267080"/>
            <a:ext cx="61722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0" y="4114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ke L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1371600" y="3429000"/>
            <a:ext cx="6248520" cy="76320"/>
          </a:xfrm>
          <a:prstGeom prst="rect">
            <a:avLst/>
          </a:prstGeom>
          <a:solidFill>
            <a:srgbClr val="4f4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228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2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121932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cohol Poiso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1371600" y="2743200"/>
            <a:ext cx="62485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0" y="2590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Dangers of Alcohol U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s of Judg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thing else in your dr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ijuana vs. Alcoh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ijuana retards the puke trig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cohol activates the trig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ght at scho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spended for 20 school days which can be reduced to 10 days if you attend a drug/alcohol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al Consequ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.I.P – Gross Misdemean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or exhibiting effects of alcohol in a public place or vehicle in a public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il / Up to 1 yea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e/ Up to $5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driver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 license until 1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can happen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riends that drink or use drug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nt you to do it to so they don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 feel as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really a friend at 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y are under the influence of anything don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 get in a vehicle with th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ngers with driving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ction times greatly redu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ability to make good deci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ult blood/alcohol level - &lt;.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venile blood/alcohol level - &lt;.0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drink………….DON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 DRIV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bacc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4" descr="MCj02909550000[1]"/>
          <p:cNvPicPr/>
          <p:nvPr/>
        </p:nvPicPr>
        <p:blipFill>
          <a:blip r:embed="rId1"/>
          <a:stretch/>
        </p:blipFill>
        <p:spPr>
          <a:xfrm>
            <a:off x="5105520" y="3429000"/>
            <a:ext cx="1606320" cy="125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Cj02909560000[1]"/>
          <p:cNvPicPr/>
          <p:nvPr/>
        </p:nvPicPr>
        <p:blipFill>
          <a:blip r:embed="rId2"/>
          <a:stretch/>
        </p:blipFill>
        <p:spPr>
          <a:xfrm>
            <a:off x="4572000" y="5181480"/>
            <a:ext cx="1692360" cy="108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HH00887_0000[1]"/>
          <p:cNvPicPr/>
          <p:nvPr/>
        </p:nvPicPr>
        <p:blipFill>
          <a:blip r:embed="rId3"/>
          <a:stretch/>
        </p:blipFill>
        <p:spPr>
          <a:xfrm>
            <a:off x="1828800" y="4114800"/>
            <a:ext cx="1011240" cy="161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do kids smoke cigarettes or chew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5" descr="MPj01788220000[1]"/>
          <p:cNvPicPr/>
          <p:nvPr/>
        </p:nvPicPr>
        <p:blipFill>
          <a:blip r:embed="rId1"/>
          <a:stretch/>
        </p:blipFill>
        <p:spPr>
          <a:xfrm>
            <a:off x="2743200" y="29718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icals found in cigaret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about 4000 chemicals in cigarettes/smoke which include some of the follow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cotine –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monia – Used in fertiliz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ldehyde – Used in embal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gen Cyanide – Used on death row gas cha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happens to your bod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mul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cal hazards with smo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cal/dental hazards of che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ncial Burden of Smo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$7.50 per p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ssing a lit cigaret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$1,025 fine for throwing a cigarette out of a moving vehic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session of tobacco under 1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$103 fine for possession of tobacco under 1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7:39:19Z</dcterms:created>
  <dc:creator>Nick Minzghor</dc:creator>
  <dc:description/>
  <cp:keywords/>
  <dc:language>en-US</dc:language>
  <cp:lastModifiedBy>Barbara Allen</cp:lastModifiedBy>
  <dcterms:modified xsi:type="dcterms:W3CDTF">2013-02-12T21:51:55Z</dcterms:modified>
  <cp:revision>111</cp:revision>
  <dc:subject/>
  <dc:title>Drugs and Alcoh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31033</vt:lpwstr>
  </property>
</Properties>
</file>