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D87F-798C-48E6-A1B5-D24095C5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4648-6168-4EFD-AEBF-CBB303A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68E5-589C-4D68-A764-307D0F0F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E2AF-6B89-4D63-98B5-BE065B84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2EFB-7EE6-4F46-BA5D-F9DB6C66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8ED-44A3-45AA-9A80-64901CFE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B65C-2233-4B75-90EB-504245C7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E578-14F8-4714-9ADE-A7FBF124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804D-890B-4DB8-BD66-04DBF832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E0ED-3B24-498C-BFFB-6DCA8A1A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92E7-1719-4498-82D0-DA3B782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0397-E562-413F-92ED-4504D410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77A0-4DDC-4940-B6C1-2DB4F97C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7FB0-D983-4E43-8DC4-259F057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AC00-5BBF-4D1B-98A3-02C95D76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DA83-03B6-4D37-BC98-D75699EE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8065-EDF6-43F4-A168-C8B7C967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B6BE-CA1C-4487-8669-D0E9F9E5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AB75-253E-4C82-A7EA-78B8211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7507-6F03-4D2B-B3F0-8722B61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6FA8-1CFB-443A-80AF-51004404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4534-3295-4621-933C-D542EEF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904A-0960-4209-9B33-4025F7E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24DC-89F3-476E-90C5-E7D99C3F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990E-479D-4C12-B313-EDD1A701F1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9A3E-D223-40F8-A61E-C3DC28E0B5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rijuan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ocaineHydrochloridePowder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en.wikipedia.org/wiki/Image:Crack_street_dosage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silocybe_semilanceat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Timbres_impr&#233;gn&#233;s_de_LSD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rugs and Alcoho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 Awareness Progra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veloped by Officer Mark Childers &amp; MPO Gary Zorn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ght at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spended for 20 school days which can be reduced to 10 days if you attend a drug/alcohol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n use of tobacco lead t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teway drug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ijuana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fects on Mind/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ressant/Hallucino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C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A Cannabis sativa pl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521240"/>
            <a:ext cx="2743200" cy="213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ght at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session- Suspended for 20 school days which can be reduced to 10 days if you attend a drug/alcohol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ling – Suspended for 90 school days which can not be redu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al Consequ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ijuan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Misdemean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il/ Up to 90 d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e/ Up to $1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driver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 license until 2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 Marijuana just a pla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gs to think ab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al Consequ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y other drug other than Marijuan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Felo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il/ Up to 5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e/ Up to $1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cense/ No license until 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ght at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session- Suspended for 20 school days which can be reduced to 10 days if you attend a drug/alcohol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ling – Suspended for 90 school days which can not be reduc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ca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der or Cr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5" descr="A pile of Cocaine hydrochlor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0968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 pile of crack cocaine ‘rocks’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267080"/>
            <a:ext cx="1989000" cy="221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llucino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SD/Ac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CP/Angel D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ilocybin Mushroo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cst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A handful of freshly picked Psilocybe semilanceata, sometimes referred to as Liberty Cap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4648320"/>
            <a:ext cx="2324160" cy="1881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erforated blotter paper impregnated with LSD, as illustrated above, is one popular form of dispensing the drug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2514600"/>
            <a:ext cx="285768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cription Med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can take i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dil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MPj03988450000[1]"/>
          <p:cNvPicPr/>
          <p:nvPr/>
        </p:nvPicPr>
        <p:blipFill>
          <a:blip r:embed="rId1"/>
          <a:stretch/>
        </p:blipFill>
        <p:spPr>
          <a:xfrm>
            <a:off x="5334120" y="3886200"/>
            <a:ext cx="3429000" cy="244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rse 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iarize students with risks and consequences associated with use of drugs and alcoh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al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ff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ned air, model glue, buta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amphetamine (Meth) Is A Powerfully Addictive Stimulant That Has A High Potential For Abuse And Dramatically Affects The Central Nervous Syste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photo_8"/>
          <p:cNvPicPr/>
          <p:nvPr/>
        </p:nvPicPr>
        <p:blipFill>
          <a:blip r:embed="rId1"/>
          <a:stretch/>
        </p:blipFill>
        <p:spPr>
          <a:xfrm>
            <a:off x="0" y="0"/>
            <a:ext cx="9144000" cy="709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photo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photo_2"/>
          <p:cNvPicPr/>
          <p:nvPr/>
        </p:nvPicPr>
        <p:blipFill>
          <a:blip r:embed="rId1"/>
          <a:stretch/>
        </p:blipFill>
        <p:spPr>
          <a:xfrm>
            <a:off x="-228600" y="63360"/>
            <a:ext cx="9372600" cy="679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photo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0" name="Picture 3" descr="photo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photo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4" descr="photo_5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Picture 3" descr="photo_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4" descr="photo_12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4" descr="photo_6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ro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f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4" descr="MCj02933920000[1]"/>
          <p:cNvPicPr/>
          <p:nvPr/>
        </p:nvPicPr>
        <p:blipFill>
          <a:blip r:embed="rId1"/>
          <a:stretch/>
        </p:blipFill>
        <p:spPr>
          <a:xfrm>
            <a:off x="6400800" y="2743200"/>
            <a:ext cx="1436760" cy="182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k Bite L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y gross pi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6477120" cy="716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7520" y="-174600"/>
            <a:ext cx="9052200" cy="720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4" descr="sharkbite1"/>
          <p:cNvPicPr/>
          <p:nvPr/>
        </p:nvPicPr>
        <p:blipFill>
          <a:blip r:embed="rId1"/>
          <a:stretch/>
        </p:blipFill>
        <p:spPr>
          <a:xfrm>
            <a:off x="49320" y="-176040"/>
            <a:ext cx="9047160" cy="721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4" descr="sharkbite"/>
          <p:cNvPicPr/>
          <p:nvPr/>
        </p:nvPicPr>
        <p:blipFill>
          <a:blip r:embed="rId1"/>
          <a:stretch/>
        </p:blipFill>
        <p:spPr>
          <a:xfrm>
            <a:off x="0" y="0"/>
            <a:ext cx="9040680" cy="721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coh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ly Used by te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ot of kids die every year from alcohol related incid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most common and easiest drug for kids to g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ngers of Alcohol Us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enzymes to break it d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ot word of intoxication is 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xic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cohol Pois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1371600" y="6019920"/>
            <a:ext cx="624852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0" y="5791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403848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447920" y="5257800"/>
            <a:ext cx="6324480" cy="763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049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0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4038480" y="33526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447920" y="4267080"/>
            <a:ext cx="61722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0" y="4114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ke L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1371600" y="3429000"/>
            <a:ext cx="6248520" cy="76320"/>
          </a:xfrm>
          <a:prstGeom prst="rect">
            <a:avLst/>
          </a:prstGeom>
          <a:solidFill>
            <a:srgbClr val="4f4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228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2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121932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1371600" y="2743200"/>
            <a:ext cx="62485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0" y="2590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Dangers of Alcohol U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s of Judg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thing else in your dr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ijuana vs. Alcoh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ijuana retards the puke trig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cohol activates the trig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ght at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spended for 20 school days which can be reduced to 10 days if you attend a drug/alcohol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al Consequ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.I.P – Gross Misdemean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or exhibiting effects of alcohol in a public place or vehicle in a public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il / Up to 1 yea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e/ Up to $5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driver</a:t>
            </a:r>
            <a:r>
              <a:rPr b="0" lang="ja-JP" sz="28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 license until 1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can happen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iends that drink or use drug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t you to do it to so they don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feel as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really a friend at 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y are under the influence of anything don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get in a vehicle with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ngers with driving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on times greatly redu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ability to make good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ult blood/alcohol level - &lt;.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venile blood/alcohol level - &lt;.0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drink………….DON</a:t>
            </a:r>
            <a:r>
              <a:rPr b="0" lang="ja-JP" sz="3200" spc="-1" strike="noStrike">
                <a:solidFill>
                  <a:srgbClr val="ffffff"/>
                </a:solidFill>
                <a:latin typeface="Garamond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DRIV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bacc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MCj02909550000[1]"/>
          <p:cNvPicPr/>
          <p:nvPr/>
        </p:nvPicPr>
        <p:blipFill>
          <a:blip r:embed="rId1"/>
          <a:stretch/>
        </p:blipFill>
        <p:spPr>
          <a:xfrm>
            <a:off x="5105520" y="3429000"/>
            <a:ext cx="1606320" cy="125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Cj02909560000[1]"/>
          <p:cNvPicPr/>
          <p:nvPr/>
        </p:nvPicPr>
        <p:blipFill>
          <a:blip r:embed="rId2"/>
          <a:stretch/>
        </p:blipFill>
        <p:spPr>
          <a:xfrm>
            <a:off x="4572000" y="5181480"/>
            <a:ext cx="1692360" cy="108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HH00887_0000[1]"/>
          <p:cNvPicPr/>
          <p:nvPr/>
        </p:nvPicPr>
        <p:blipFill>
          <a:blip r:embed="rId3"/>
          <a:stretch/>
        </p:blipFill>
        <p:spPr>
          <a:xfrm>
            <a:off x="1828800" y="4114800"/>
            <a:ext cx="1011240" cy="161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do kids smoke cigarettes or chew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MPj01788220000[1]"/>
          <p:cNvPicPr/>
          <p:nvPr/>
        </p:nvPicPr>
        <p:blipFill>
          <a:blip r:embed="rId1"/>
          <a:stretch/>
        </p:blipFill>
        <p:spPr>
          <a:xfrm>
            <a:off x="2743200" y="29718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icals found in cigaret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bout 4000 chemicals in cigarettes/smoke which include some of the follow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cotine –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monia – Used in fertiliz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ldehyde – Used in embal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drogen Cyanide – Used on death row gas cha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happens to your bod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cal hazards with smo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cal/dental hazards of ch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ncial Burden of Smo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$7.50 per p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ssing a lit cigaret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1,025 fine for throwing a cigarette out of a moving vehic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ession of tobacco under 1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103 fine for possession of tobacco under 1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39:19Z</dcterms:created>
  <dc:creator>Nick Minzghor</dc:creator>
  <dc:description/>
  <cp:keywords/>
  <dc:language>en-US</dc:language>
  <cp:lastModifiedBy>Barbara Allen</cp:lastModifiedBy>
  <dcterms:modified xsi:type="dcterms:W3CDTF">2013-02-12T21:51:55Z</dcterms:modified>
  <cp:revision>111</cp:revision>
  <dc:subject/>
  <dc:title>Drugs and Alcoh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31033</vt:lpwstr>
  </property>
</Properties>
</file>