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c61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C62D-C4EB-4279-8DD6-E618341A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18D5-5C66-4FA0-9F6D-4DCBD2CF45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F5E3-570B-4410-9314-7B32CE9F07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EAC-56E4-4C6A-B429-727C8BE22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130B-75FA-4C14-B7AE-7C91C58E1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69F-99BF-4DF0-81EE-4137D5ACF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ACB-531B-4186-B41D-CF2C65080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8FB-BACC-47F8-9F99-1129BB963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3CA-12ED-441A-A049-121D0F951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B17-D092-4E2F-A6A3-182EB9912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142-A889-4954-931F-539EDFC50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77C-40C9-4B86-97BB-E99542E9C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0EC-AF7E-4198-97EF-F11D96462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14D6-99C8-462E-AE52-E049E082D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531-5D5F-4676-97FF-E70FC5FD0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C03-7F2B-4EDE-A712-8BBCE2A55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C7F-CC11-40B5-90C2-98DA4EC7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DC5-4700-4FA5-9B37-73A5E3E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5E4-C94A-4B21-8682-165D42D0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EF7-9F2B-4926-B170-6ED0B414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88A-772E-4139-94BF-A365B05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BF5-C1C6-48E9-BE6B-F313077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8F6-96D5-4A05-B022-950CB6C2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598-18B5-4DE7-9D6B-A9927596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E1F-2FD0-47FF-B726-D5AFBA0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E08-73E1-4824-8243-5CE5274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C04-B1C6-49E8-BD0F-6E7CF14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A92-B461-4F66-8E6E-A388EA0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c6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7c6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7c6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7c6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E5BC-6B2A-40B1-B437-6276EF842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0a0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70a0ff"/>
                </a:solidFill>
                <a:latin typeface="Arial"/>
              </a:rPr>
              <a:t>Class of 2021 Scholarship Information</a:t>
            </a:r>
            <a:endParaRPr b="0" lang="en-US" sz="35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 Pillars of Scholarship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pplication Tip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Keys to Remember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</a:t>
            </a: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… DETAILS ... DETAIL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Snapshot, not a movie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ANSWER THE PROMP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uthen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ice and vocabulary you know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3 people critique it (“it’s good” doesn’t help)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don’t have a lot of community service hours due to a job, let them know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Keys to Remember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the scholarship criteri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ake sure you are a good fi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application is neat and complete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ALL DEADLINE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Do’s and Don’t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63512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arch and apply for scholarships on trusted sites like washboard.org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y money for information or assistance with scholarship searches. There are plenty of free options online, or you can ask your school counselor for help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for local scholarships at your high school, in your community, from employers, and at the college you plan to attend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Do’s and Don’t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0280" y="163512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te time and energy. Make sure you meet eligibility requirements before you apply. Also, many scholarship applications require essays on similar topics—it’s okay to reuse your work on multiple applications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inue to apply for scholarships while you are in college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not answered, please contact Mr. Dawson (bdawson@nsd.org)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Scholarship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of financial aid that do not need to be paid back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ed by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ges for outstanding achievemen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programs based on achievement or need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organization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groups, clubs or other community organization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titution/School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if scholarship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cation or if filling out FAFSA/applying for admission is all that’s required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hool, it will be different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is before you finish each college application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District Scholarship Bulletin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d monthly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online at: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https://bothell.nsd.org/counseling/college-readines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copy available in the Counseling office (when we are on campus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District Scholarship Bulletin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05000" y="2590920"/>
            <a:ext cx="4962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larship Foundation of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thshore—Seniors Only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sf-ns.org/</a:t>
            </a:r>
            <a:endParaRPr b="0" lang="en-US" sz="36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completed online. Submit only one application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Application due February 15</a:t>
            </a:r>
            <a:r>
              <a:rPr b="0" lang="en-US" sz="2400" spc="-1" strike="noStrike" baseline="30000">
                <a:solidFill>
                  <a:srgbClr val="e7c61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a VARIETY of student strengths (not just academic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larship Foundation of Northshore—Seniors Only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sf-ns.org/</a:t>
            </a:r>
            <a:endParaRPr b="0" lang="en-US" sz="36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D students ONLY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00 - $7500, some are renewable for 4 year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!!!!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ashboard.org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profile that includes: interests, activities, academics and more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es your profile to scholarships (70%, 90%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cholarships = less specific profile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your time and tell your story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100% hones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from your heart BUT have boundaries- remember, a stranger is reading thi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9:09:09Z</dcterms:created>
  <dc:creator>Technology Department</dc:creator>
  <dc:description/>
  <dc:language>en-US</dc:language>
  <cp:lastModifiedBy>Microsoft Office User</cp:lastModifiedBy>
  <dcterms:modified xsi:type="dcterms:W3CDTF">2021-01-07T22:35:33Z</dcterms:modified>
  <cp:revision>165</cp:revision>
  <dc:subject/>
  <dc:title>PowerPoint Presentation</dc:title>
</cp:coreProperties>
</file>