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7c61e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4A4D-4F20-48F3-9295-595FE830F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44F3-B3F4-462F-A8B9-E5F71D1FAB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4916-7884-4D28-9E57-20EAAB3F76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4B7D-178B-4CF7-878D-82242A5C93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C341-4099-48CE-B79F-69A2D53B19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F92E-9778-40ED-BDFC-ADF78AF96F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4E97-417F-45C7-BA20-611714D6AF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412E-556A-4E63-9A1D-BDCE51FD19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FB0C-5A42-40E0-9975-C9F4EF0297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9B45-5B21-4C01-8765-EEC7A6C772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FFEB-F9E5-4290-B5A6-937A0B886B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C69D-B99D-4D7F-9C56-A2447430B0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5205-2ACD-490E-AF80-D94EEDA8A4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5971-309F-4583-A6E9-59E030FFAC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64A3-E1E2-4A2C-B0ED-EB6FF1F734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C2AF-A0E5-4C27-81C5-3CEAD185AD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86D2-9A00-40F5-9EE8-8EE5EA25F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238E-E1DD-4E2C-B84F-83645CA5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C11B-1F97-4B59-9351-44F91E2F3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060D-AE08-4290-8C49-B230F57B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1034-B841-4A9A-8021-DBB6F4E5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A4CF-40C0-401E-BB38-19974FFD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D130-E7C6-4DC9-AF3A-0A71621C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DAAF-C6CA-4E37-9CB5-61E91A7E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2490-E77E-4735-A0B8-FACA607F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B0ED-3A5E-4CB2-8160-2348C0DE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7BA2-38B2-472E-8576-B9E98AE8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4C5B-FAA1-4FB4-B161-3FD84717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7c61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7c6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c61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7c6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c61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7c6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c61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7c6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c61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7c6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c61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c61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c61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1616-F162-41E2-AFD7-4BFE36EE0D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1294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70a0ff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70a0ff"/>
                </a:solidFill>
                <a:latin typeface="Arial"/>
              </a:rPr>
              <a:t>Class of 2021 Scholarship Information</a:t>
            </a:r>
            <a:endParaRPr b="0" lang="en-US" sz="35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29718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e7c61e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4 Pillars of Scholarships</a:t>
            </a: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Application Tips</a:t>
            </a: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Keys to Remember</a:t>
            </a: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8458200" y="304920"/>
            <a:ext cx="685800" cy="624816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248160"/>
              <a:gd name="textAreaBottom" fmla="*/ 6005880 h 6248160"/>
            </a:gdLst>
            <a:ahLst/>
            <a:rect l="textAreaLeft" t="textAreaTop" r="textAreaRight" b="textAreaBottom"/>
            <a:pathLst>
              <a:path w="21600" h="196701">
                <a:moveTo>
                  <a:pt x="10800" y="0"/>
                </a:moveTo>
                <a:arcTo wR="10800" hR="10800" stAng="0" swAng="5400000"/>
                <a:lnTo>
                  <a:pt x="0" y="185901"/>
                </a:lnTo>
                <a:arcTo wR="10800" hR="10800" stAng="16200000" swAng="5400000"/>
                <a:lnTo>
                  <a:pt x="10800" y="196701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0" y="355680"/>
            <a:ext cx="685800" cy="632448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324480"/>
              <a:gd name="textAreaBottom" fmla="*/ 6082200 h 6324480"/>
            </a:gdLst>
            <a:ahLst/>
            <a:rect l="textAreaLeft" t="textAreaTop" r="textAreaRight" b="textAreaBottom"/>
            <a:pathLst>
              <a:path w="21600" h="199103">
                <a:moveTo>
                  <a:pt x="10800" y="0"/>
                </a:moveTo>
                <a:arcTo wR="10800" hR="10800" stAng="0" swAng="5400000"/>
                <a:lnTo>
                  <a:pt x="0" y="188303"/>
                </a:lnTo>
                <a:arcTo wR="10800" hR="10800" stAng="16200000" swAng="5400000"/>
                <a:lnTo>
                  <a:pt x="10800" y="1991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8"/>
          <p:cNvSpPr/>
          <p:nvPr/>
        </p:nvSpPr>
        <p:spPr>
          <a:xfrm rot="5380800">
            <a:off x="4220280" y="-3890160"/>
            <a:ext cx="681120" cy="8461440"/>
          </a:xfrm>
          <a:custGeom>
            <a:avLst/>
            <a:gdLst>
              <a:gd name="textAreaLeft" fmla="*/ 240840 w 681120"/>
              <a:gd name="textAreaRight" fmla="*/ 440280 w 681120"/>
              <a:gd name="textAreaTop" fmla="*/ 240840 h 8461440"/>
              <a:gd name="textAreaBottom" fmla="*/ 8220600 h 8461440"/>
            </a:gdLst>
            <a:ahLst/>
            <a:rect l="textAreaLeft" t="textAreaTop" r="textAreaRight" b="textAreaBottom"/>
            <a:pathLst>
              <a:path w="21600" h="268203">
                <a:moveTo>
                  <a:pt x="10800" y="0"/>
                </a:moveTo>
                <a:arcTo wR="10800" hR="10800" stAng="0" swAng="5400000"/>
                <a:lnTo>
                  <a:pt x="0" y="257403"/>
                </a:lnTo>
                <a:arcTo wR="10800" hR="10800" stAng="16200000" swAng="5400000"/>
                <a:lnTo>
                  <a:pt x="10800" y="2682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990720" y="152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ell High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a0ff"/>
                </a:solidFill>
                <a:latin typeface="Arial"/>
              </a:rPr>
              <a:t>When applying</a:t>
            </a:r>
            <a:r>
              <a:rPr b="0" lang="is-IS" sz="4400" spc="-1" strike="noStrike">
                <a:solidFill>
                  <a:srgbClr val="70a0ff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AILS </a:t>
            </a:r>
            <a:r>
              <a:rPr b="0" lang="is-IS" sz="2800" spc="-1" strike="noStrike">
                <a:solidFill>
                  <a:srgbClr val="ffffff"/>
                </a:solidFill>
                <a:latin typeface="Arial"/>
              </a:rPr>
              <a:t>… DETAILS ... DETAILS</a:t>
            </a: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ffffff"/>
                </a:solidFill>
                <a:latin typeface="Arial"/>
              </a:rPr>
              <a:t>Snapshot, not a movie</a:t>
            </a: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ffffff"/>
                </a:solidFill>
                <a:latin typeface="Arial"/>
              </a:rPr>
              <a:t>ANSWER THE PROMPT</a:t>
            </a: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8458200" y="304920"/>
            <a:ext cx="685800" cy="624816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248160"/>
              <a:gd name="textAreaBottom" fmla="*/ 6005880 h 6248160"/>
            </a:gdLst>
            <a:ahLst/>
            <a:rect l="textAreaLeft" t="textAreaTop" r="textAreaRight" b="textAreaBottom"/>
            <a:pathLst>
              <a:path w="21600" h="196701">
                <a:moveTo>
                  <a:pt x="10800" y="0"/>
                </a:moveTo>
                <a:arcTo wR="10800" hR="10800" stAng="0" swAng="5400000"/>
                <a:lnTo>
                  <a:pt x="0" y="185901"/>
                </a:lnTo>
                <a:arcTo wR="10800" hR="10800" stAng="16200000" swAng="5400000"/>
                <a:lnTo>
                  <a:pt x="10800" y="196701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0" y="355680"/>
            <a:ext cx="685800" cy="632448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324480"/>
              <a:gd name="textAreaBottom" fmla="*/ 6082200 h 6324480"/>
            </a:gdLst>
            <a:ahLst/>
            <a:rect l="textAreaLeft" t="textAreaTop" r="textAreaRight" b="textAreaBottom"/>
            <a:pathLst>
              <a:path w="21600" h="199103">
                <a:moveTo>
                  <a:pt x="10800" y="0"/>
                </a:moveTo>
                <a:arcTo wR="10800" hR="10800" stAng="0" swAng="5400000"/>
                <a:lnTo>
                  <a:pt x="0" y="188303"/>
                </a:lnTo>
                <a:arcTo wR="10800" hR="10800" stAng="16200000" swAng="5400000"/>
                <a:lnTo>
                  <a:pt x="10800" y="1991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6"/>
          <p:cNvSpPr/>
          <p:nvPr/>
        </p:nvSpPr>
        <p:spPr>
          <a:xfrm rot="5380800">
            <a:off x="4220280" y="-3890160"/>
            <a:ext cx="681120" cy="8461440"/>
          </a:xfrm>
          <a:custGeom>
            <a:avLst/>
            <a:gdLst>
              <a:gd name="textAreaLeft" fmla="*/ 240840 w 681120"/>
              <a:gd name="textAreaRight" fmla="*/ 440280 w 681120"/>
              <a:gd name="textAreaTop" fmla="*/ 240840 h 8461440"/>
              <a:gd name="textAreaBottom" fmla="*/ 8220600 h 8461440"/>
            </a:gdLst>
            <a:ahLst/>
            <a:rect l="textAreaLeft" t="textAreaTop" r="textAreaRight" b="textAreaBottom"/>
            <a:pathLst>
              <a:path w="21600" h="268203">
                <a:moveTo>
                  <a:pt x="10800" y="0"/>
                </a:moveTo>
                <a:arcTo wR="10800" hR="10800" stAng="0" swAng="5400000"/>
                <a:lnTo>
                  <a:pt x="0" y="257403"/>
                </a:lnTo>
                <a:arcTo wR="10800" hR="10800" stAng="16200000" swAng="5400000"/>
                <a:lnTo>
                  <a:pt x="10800" y="2682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990720" y="152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ell High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a0ff"/>
                </a:solidFill>
                <a:latin typeface="Arial"/>
              </a:rPr>
              <a:t>When applying</a:t>
            </a:r>
            <a:r>
              <a:rPr b="0" lang="is-IS" sz="4400" spc="-1" strike="noStrike">
                <a:solidFill>
                  <a:srgbClr val="70a0ff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a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uthent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voice and vocabulary you know</a:t>
            </a: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3 people critique it (“it’s good” doesn’t help)</a:t>
            </a: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if you don’t have a lot of community service hours due to a job, let them know</a:t>
            </a: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8458200" y="304920"/>
            <a:ext cx="685800" cy="624816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248160"/>
              <a:gd name="textAreaBottom" fmla="*/ 6005880 h 6248160"/>
            </a:gdLst>
            <a:ahLst/>
            <a:rect l="textAreaLeft" t="textAreaTop" r="textAreaRight" b="textAreaBottom"/>
            <a:pathLst>
              <a:path w="21600" h="196701">
                <a:moveTo>
                  <a:pt x="10800" y="0"/>
                </a:moveTo>
                <a:arcTo wR="10800" hR="10800" stAng="0" swAng="5400000"/>
                <a:lnTo>
                  <a:pt x="0" y="185901"/>
                </a:lnTo>
                <a:arcTo wR="10800" hR="10800" stAng="16200000" swAng="5400000"/>
                <a:lnTo>
                  <a:pt x="10800" y="196701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0" y="355680"/>
            <a:ext cx="685800" cy="632448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324480"/>
              <a:gd name="textAreaBottom" fmla="*/ 6082200 h 6324480"/>
            </a:gdLst>
            <a:ahLst/>
            <a:rect l="textAreaLeft" t="textAreaTop" r="textAreaRight" b="textAreaBottom"/>
            <a:pathLst>
              <a:path w="21600" h="199103">
                <a:moveTo>
                  <a:pt x="10800" y="0"/>
                </a:moveTo>
                <a:arcTo wR="10800" hR="10800" stAng="0" swAng="5400000"/>
                <a:lnTo>
                  <a:pt x="0" y="188303"/>
                </a:lnTo>
                <a:arcTo wR="10800" hR="10800" stAng="16200000" swAng="5400000"/>
                <a:lnTo>
                  <a:pt x="10800" y="1991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 rot="5380800">
            <a:off x="4220280" y="-3890160"/>
            <a:ext cx="681120" cy="8461440"/>
          </a:xfrm>
          <a:custGeom>
            <a:avLst/>
            <a:gdLst>
              <a:gd name="textAreaLeft" fmla="*/ 240840 w 681120"/>
              <a:gd name="textAreaRight" fmla="*/ 440280 w 681120"/>
              <a:gd name="textAreaTop" fmla="*/ 240840 h 8461440"/>
              <a:gd name="textAreaBottom" fmla="*/ 8220600 h 8461440"/>
            </a:gdLst>
            <a:ahLst/>
            <a:rect l="textAreaLeft" t="textAreaTop" r="textAreaRight" b="textAreaBottom"/>
            <a:pathLst>
              <a:path w="21600" h="268203">
                <a:moveTo>
                  <a:pt x="10800" y="0"/>
                </a:moveTo>
                <a:arcTo wR="10800" hR="10800" stAng="0" swAng="5400000"/>
                <a:lnTo>
                  <a:pt x="0" y="257403"/>
                </a:lnTo>
                <a:arcTo wR="10800" hR="10800" stAng="16200000" swAng="5400000"/>
                <a:lnTo>
                  <a:pt x="10800" y="2682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990720" y="152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ell High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a0ff"/>
                </a:solidFill>
                <a:latin typeface="Arial"/>
              </a:rPr>
              <a:t>Keys to Remember</a:t>
            </a: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the scholarship criteria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areful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make sure you are a good fit</a:t>
            </a: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sure application is neat and complete</a:t>
            </a: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ET ALL DEADLINES</a:t>
            </a: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8458200" y="304920"/>
            <a:ext cx="685800" cy="624816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248160"/>
              <a:gd name="textAreaBottom" fmla="*/ 6005880 h 6248160"/>
            </a:gdLst>
            <a:ahLst/>
            <a:rect l="textAreaLeft" t="textAreaTop" r="textAreaRight" b="textAreaBottom"/>
            <a:pathLst>
              <a:path w="21600" h="196701">
                <a:moveTo>
                  <a:pt x="10800" y="0"/>
                </a:moveTo>
                <a:arcTo wR="10800" hR="10800" stAng="0" swAng="5400000"/>
                <a:lnTo>
                  <a:pt x="0" y="185901"/>
                </a:lnTo>
                <a:arcTo wR="10800" hR="10800" stAng="16200000" swAng="5400000"/>
                <a:lnTo>
                  <a:pt x="10800" y="196701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0" y="355680"/>
            <a:ext cx="685800" cy="632448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324480"/>
              <a:gd name="textAreaBottom" fmla="*/ 6082200 h 6324480"/>
            </a:gdLst>
            <a:ahLst/>
            <a:rect l="textAreaLeft" t="textAreaTop" r="textAreaRight" b="textAreaBottom"/>
            <a:pathLst>
              <a:path w="21600" h="199103">
                <a:moveTo>
                  <a:pt x="10800" y="0"/>
                </a:moveTo>
                <a:arcTo wR="10800" hR="10800" stAng="0" swAng="5400000"/>
                <a:lnTo>
                  <a:pt x="0" y="188303"/>
                </a:lnTo>
                <a:arcTo wR="10800" hR="10800" stAng="16200000" swAng="5400000"/>
                <a:lnTo>
                  <a:pt x="10800" y="1991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 rot="5380800">
            <a:off x="4220280" y="-3890160"/>
            <a:ext cx="681120" cy="8461440"/>
          </a:xfrm>
          <a:custGeom>
            <a:avLst/>
            <a:gdLst>
              <a:gd name="textAreaLeft" fmla="*/ 240840 w 681120"/>
              <a:gd name="textAreaRight" fmla="*/ 440280 w 681120"/>
              <a:gd name="textAreaTop" fmla="*/ 240840 h 8461440"/>
              <a:gd name="textAreaBottom" fmla="*/ 8220600 h 8461440"/>
            </a:gdLst>
            <a:ahLst/>
            <a:rect l="textAreaLeft" t="textAreaTop" r="textAreaRight" b="textAreaBottom"/>
            <a:pathLst>
              <a:path w="21600" h="268203">
                <a:moveTo>
                  <a:pt x="10800" y="0"/>
                </a:moveTo>
                <a:arcTo wR="10800" hR="10800" stAng="0" swAng="5400000"/>
                <a:lnTo>
                  <a:pt x="0" y="257403"/>
                </a:lnTo>
                <a:arcTo wR="10800" hR="10800" stAng="16200000" swAng="5400000"/>
                <a:lnTo>
                  <a:pt x="10800" y="2682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990720" y="152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ell High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a0ff"/>
                </a:solidFill>
                <a:latin typeface="Arial"/>
              </a:rPr>
              <a:t>Do’s and Don’ts</a:t>
            </a: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00280" y="1635120"/>
            <a:ext cx="777240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arch and apply for scholarships on trusted sites like washboard.org</a:t>
            </a: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ay money for information or assistance with scholarship searches. There are plenty of free options online, or you can ask your school counselor for help.</a:t>
            </a: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pply for local scholarships at your high school, in your community, from employers, and at the college you plan to attend.</a:t>
            </a: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8458200" y="304920"/>
            <a:ext cx="685800" cy="624816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248160"/>
              <a:gd name="textAreaBottom" fmla="*/ 6005880 h 6248160"/>
            </a:gdLst>
            <a:ahLst/>
            <a:rect l="textAreaLeft" t="textAreaTop" r="textAreaRight" b="textAreaBottom"/>
            <a:pathLst>
              <a:path w="21600" h="196701">
                <a:moveTo>
                  <a:pt x="10800" y="0"/>
                </a:moveTo>
                <a:arcTo wR="10800" hR="10800" stAng="0" swAng="5400000"/>
                <a:lnTo>
                  <a:pt x="0" y="185901"/>
                </a:lnTo>
                <a:arcTo wR="10800" hR="10800" stAng="16200000" swAng="5400000"/>
                <a:lnTo>
                  <a:pt x="10800" y="196701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0" y="355680"/>
            <a:ext cx="685800" cy="632448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324480"/>
              <a:gd name="textAreaBottom" fmla="*/ 6082200 h 6324480"/>
            </a:gdLst>
            <a:ahLst/>
            <a:rect l="textAreaLeft" t="textAreaTop" r="textAreaRight" b="textAreaBottom"/>
            <a:pathLst>
              <a:path w="21600" h="199103">
                <a:moveTo>
                  <a:pt x="10800" y="0"/>
                </a:moveTo>
                <a:arcTo wR="10800" hR="10800" stAng="0" swAng="5400000"/>
                <a:lnTo>
                  <a:pt x="0" y="188303"/>
                </a:lnTo>
                <a:arcTo wR="10800" hR="10800" stAng="16200000" swAng="5400000"/>
                <a:lnTo>
                  <a:pt x="10800" y="1991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 rot="5380800">
            <a:off x="4220280" y="-3890160"/>
            <a:ext cx="681120" cy="8461440"/>
          </a:xfrm>
          <a:custGeom>
            <a:avLst/>
            <a:gdLst>
              <a:gd name="textAreaLeft" fmla="*/ 240840 w 681120"/>
              <a:gd name="textAreaRight" fmla="*/ 440280 w 681120"/>
              <a:gd name="textAreaTop" fmla="*/ 240840 h 8461440"/>
              <a:gd name="textAreaBottom" fmla="*/ 8220600 h 8461440"/>
            </a:gdLst>
            <a:ahLst/>
            <a:rect l="textAreaLeft" t="textAreaTop" r="textAreaRight" b="textAreaBottom"/>
            <a:pathLst>
              <a:path w="21600" h="268203">
                <a:moveTo>
                  <a:pt x="10800" y="0"/>
                </a:moveTo>
                <a:arcTo wR="10800" hR="10800" stAng="0" swAng="5400000"/>
                <a:lnTo>
                  <a:pt x="0" y="257403"/>
                </a:lnTo>
                <a:arcTo wR="10800" hR="10800" stAng="16200000" swAng="5400000"/>
                <a:lnTo>
                  <a:pt x="10800" y="2682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990720" y="152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ell High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a0ff"/>
                </a:solidFill>
                <a:latin typeface="Arial"/>
              </a:rPr>
              <a:t>Do’s and Don’ts</a:t>
            </a: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0280" y="1635120"/>
            <a:ext cx="777240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ste time and energy. Make sure you meet eligibility requirements before you apply. Also, many scholarship applications require essays on similar topics—it’s okay to reuse your work on multiple applications.</a:t>
            </a: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inue to apply for scholarships while you are in college.</a:t>
            </a: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8458200" y="304920"/>
            <a:ext cx="685800" cy="624816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248160"/>
              <a:gd name="textAreaBottom" fmla="*/ 6005880 h 6248160"/>
            </a:gdLst>
            <a:ahLst/>
            <a:rect l="textAreaLeft" t="textAreaTop" r="textAreaRight" b="textAreaBottom"/>
            <a:pathLst>
              <a:path w="21600" h="196701">
                <a:moveTo>
                  <a:pt x="10800" y="0"/>
                </a:moveTo>
                <a:arcTo wR="10800" hR="10800" stAng="0" swAng="5400000"/>
                <a:lnTo>
                  <a:pt x="0" y="185901"/>
                </a:lnTo>
                <a:arcTo wR="10800" hR="10800" stAng="16200000" swAng="5400000"/>
                <a:lnTo>
                  <a:pt x="10800" y="196701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0" y="355680"/>
            <a:ext cx="685800" cy="632448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324480"/>
              <a:gd name="textAreaBottom" fmla="*/ 6082200 h 6324480"/>
            </a:gdLst>
            <a:ahLst/>
            <a:rect l="textAreaLeft" t="textAreaTop" r="textAreaRight" b="textAreaBottom"/>
            <a:pathLst>
              <a:path w="21600" h="199103">
                <a:moveTo>
                  <a:pt x="10800" y="0"/>
                </a:moveTo>
                <a:arcTo wR="10800" hR="10800" stAng="0" swAng="5400000"/>
                <a:lnTo>
                  <a:pt x="0" y="188303"/>
                </a:lnTo>
                <a:arcTo wR="10800" hR="10800" stAng="16200000" swAng="5400000"/>
                <a:lnTo>
                  <a:pt x="10800" y="1991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 rot="5380800">
            <a:off x="4220280" y="-3890160"/>
            <a:ext cx="681120" cy="8461440"/>
          </a:xfrm>
          <a:custGeom>
            <a:avLst/>
            <a:gdLst>
              <a:gd name="textAreaLeft" fmla="*/ 240840 w 681120"/>
              <a:gd name="textAreaRight" fmla="*/ 440280 w 681120"/>
              <a:gd name="textAreaTop" fmla="*/ 240840 h 8461440"/>
              <a:gd name="textAreaBottom" fmla="*/ 8220600 h 8461440"/>
            </a:gdLst>
            <a:ahLst/>
            <a:rect l="textAreaLeft" t="textAreaTop" r="textAreaRight" b="textAreaBottom"/>
            <a:pathLst>
              <a:path w="21600" h="268203">
                <a:moveTo>
                  <a:pt x="10800" y="0"/>
                </a:moveTo>
                <a:arcTo wR="10800" hR="10800" stAng="0" swAng="5400000"/>
                <a:lnTo>
                  <a:pt x="0" y="257403"/>
                </a:lnTo>
                <a:arcTo wR="10800" hR="10800" stAng="16200000" swAng="5400000"/>
                <a:lnTo>
                  <a:pt x="10800" y="2682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990720" y="152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ell High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a0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thing not answered, please contact Mr. Dawson (bdawson@nsd.org)</a:t>
            </a: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8458200" y="304920"/>
            <a:ext cx="685800" cy="624816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248160"/>
              <a:gd name="textAreaBottom" fmla="*/ 6005880 h 6248160"/>
            </a:gdLst>
            <a:ahLst/>
            <a:rect l="textAreaLeft" t="textAreaTop" r="textAreaRight" b="textAreaBottom"/>
            <a:pathLst>
              <a:path w="21600" h="196701">
                <a:moveTo>
                  <a:pt x="10800" y="0"/>
                </a:moveTo>
                <a:arcTo wR="10800" hR="10800" stAng="0" swAng="5400000"/>
                <a:lnTo>
                  <a:pt x="0" y="185901"/>
                </a:lnTo>
                <a:arcTo wR="10800" hR="10800" stAng="16200000" swAng="5400000"/>
                <a:lnTo>
                  <a:pt x="10800" y="196701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0" y="355680"/>
            <a:ext cx="685800" cy="632448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324480"/>
              <a:gd name="textAreaBottom" fmla="*/ 6082200 h 6324480"/>
            </a:gdLst>
            <a:ahLst/>
            <a:rect l="textAreaLeft" t="textAreaTop" r="textAreaRight" b="textAreaBottom"/>
            <a:pathLst>
              <a:path w="21600" h="199103">
                <a:moveTo>
                  <a:pt x="10800" y="0"/>
                </a:moveTo>
                <a:arcTo wR="10800" hR="10800" stAng="0" swAng="5400000"/>
                <a:lnTo>
                  <a:pt x="0" y="188303"/>
                </a:lnTo>
                <a:arcTo wR="10800" hR="10800" stAng="16200000" swAng="5400000"/>
                <a:lnTo>
                  <a:pt x="10800" y="1991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6"/>
          <p:cNvSpPr/>
          <p:nvPr/>
        </p:nvSpPr>
        <p:spPr>
          <a:xfrm rot="5380800">
            <a:off x="4220280" y="-3890160"/>
            <a:ext cx="681120" cy="8461440"/>
          </a:xfrm>
          <a:custGeom>
            <a:avLst/>
            <a:gdLst>
              <a:gd name="textAreaLeft" fmla="*/ 240840 w 681120"/>
              <a:gd name="textAreaRight" fmla="*/ 440280 w 681120"/>
              <a:gd name="textAreaTop" fmla="*/ 240840 h 8461440"/>
              <a:gd name="textAreaBottom" fmla="*/ 8220600 h 8461440"/>
            </a:gdLst>
            <a:ahLst/>
            <a:rect l="textAreaLeft" t="textAreaTop" r="textAreaRight" b="textAreaBottom"/>
            <a:pathLst>
              <a:path w="21600" h="268203">
                <a:moveTo>
                  <a:pt x="10800" y="0"/>
                </a:moveTo>
                <a:arcTo wR="10800" hR="10800" stAng="0" swAng="5400000"/>
                <a:lnTo>
                  <a:pt x="0" y="257403"/>
                </a:lnTo>
                <a:arcTo wR="10800" hR="10800" stAng="16200000" swAng="5400000"/>
                <a:lnTo>
                  <a:pt x="10800" y="2682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990720" y="152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ell High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a0ff"/>
                </a:solidFill>
                <a:latin typeface="Arial"/>
              </a:rPr>
              <a:t>Scholarships</a:t>
            </a: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 of financial aid that do not need to be paid back</a:t>
            </a: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warded by</a:t>
            </a: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ges for outstanding achievement</a:t>
            </a: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programs based on achievement or need</a:t>
            </a: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vate organizations</a:t>
            </a: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 groups, clubs or other community organizations</a:t>
            </a: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8458200" y="304920"/>
            <a:ext cx="685800" cy="624816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248160"/>
              <a:gd name="textAreaBottom" fmla="*/ 6005880 h 6248160"/>
            </a:gdLst>
            <a:ahLst/>
            <a:rect l="textAreaLeft" t="textAreaTop" r="textAreaRight" b="textAreaBottom"/>
            <a:pathLst>
              <a:path w="21600" h="196701">
                <a:moveTo>
                  <a:pt x="10800" y="0"/>
                </a:moveTo>
                <a:arcTo wR="10800" hR="10800" stAng="0" swAng="5400000"/>
                <a:lnTo>
                  <a:pt x="0" y="185901"/>
                </a:lnTo>
                <a:arcTo wR="10800" hR="10800" stAng="16200000" swAng="5400000"/>
                <a:lnTo>
                  <a:pt x="10800" y="196701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0" y="355680"/>
            <a:ext cx="685800" cy="632448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324480"/>
              <a:gd name="textAreaBottom" fmla="*/ 6082200 h 6324480"/>
            </a:gdLst>
            <a:ahLst/>
            <a:rect l="textAreaLeft" t="textAreaTop" r="textAreaRight" b="textAreaBottom"/>
            <a:pathLst>
              <a:path w="21600" h="199103">
                <a:moveTo>
                  <a:pt x="10800" y="0"/>
                </a:moveTo>
                <a:arcTo wR="10800" hR="10800" stAng="0" swAng="5400000"/>
                <a:lnTo>
                  <a:pt x="0" y="188303"/>
                </a:lnTo>
                <a:arcTo wR="10800" hR="10800" stAng="16200000" swAng="5400000"/>
                <a:lnTo>
                  <a:pt x="10800" y="1991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 rot="5380800">
            <a:off x="4220280" y="-3890160"/>
            <a:ext cx="681120" cy="8461440"/>
          </a:xfrm>
          <a:custGeom>
            <a:avLst/>
            <a:gdLst>
              <a:gd name="textAreaLeft" fmla="*/ 240840 w 681120"/>
              <a:gd name="textAreaRight" fmla="*/ 440280 w 681120"/>
              <a:gd name="textAreaTop" fmla="*/ 240840 h 8461440"/>
              <a:gd name="textAreaBottom" fmla="*/ 8220600 h 8461440"/>
            </a:gdLst>
            <a:ahLst/>
            <a:rect l="textAreaLeft" t="textAreaTop" r="textAreaRight" b="textAreaBottom"/>
            <a:pathLst>
              <a:path w="21600" h="268203">
                <a:moveTo>
                  <a:pt x="10800" y="0"/>
                </a:moveTo>
                <a:arcTo wR="10800" hR="10800" stAng="0" swAng="5400000"/>
                <a:lnTo>
                  <a:pt x="0" y="257403"/>
                </a:lnTo>
                <a:arcTo wR="10800" hR="10800" stAng="16200000" swAng="5400000"/>
                <a:lnTo>
                  <a:pt x="10800" y="2682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990720" y="152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ell High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a0ff"/>
                </a:solidFill>
                <a:latin typeface="Arial"/>
              </a:rPr>
              <a:t>4 Pillars</a:t>
            </a: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Institution/School</a:t>
            </a: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 if scholarship is 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epar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pplication or if filling out FAFSA/applying for admission is all that’s required</a:t>
            </a: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ve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chool, it will be different</a:t>
            </a: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OW this before you finish each college application</a:t>
            </a: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62" name="AutoShape 4"/>
          <p:cNvSpPr/>
          <p:nvPr/>
        </p:nvSpPr>
        <p:spPr>
          <a:xfrm>
            <a:off x="8458200" y="304920"/>
            <a:ext cx="685800" cy="624816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248160"/>
              <a:gd name="textAreaBottom" fmla="*/ 6005880 h 6248160"/>
            </a:gdLst>
            <a:ahLst/>
            <a:rect l="textAreaLeft" t="textAreaTop" r="textAreaRight" b="textAreaBottom"/>
            <a:pathLst>
              <a:path w="21600" h="196701">
                <a:moveTo>
                  <a:pt x="10800" y="0"/>
                </a:moveTo>
                <a:arcTo wR="10800" hR="10800" stAng="0" swAng="5400000"/>
                <a:lnTo>
                  <a:pt x="0" y="185901"/>
                </a:lnTo>
                <a:arcTo wR="10800" hR="10800" stAng="16200000" swAng="5400000"/>
                <a:lnTo>
                  <a:pt x="10800" y="196701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0" y="355680"/>
            <a:ext cx="685800" cy="632448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324480"/>
              <a:gd name="textAreaBottom" fmla="*/ 6082200 h 6324480"/>
            </a:gdLst>
            <a:ahLst/>
            <a:rect l="textAreaLeft" t="textAreaTop" r="textAreaRight" b="textAreaBottom"/>
            <a:pathLst>
              <a:path w="21600" h="199103">
                <a:moveTo>
                  <a:pt x="10800" y="0"/>
                </a:moveTo>
                <a:arcTo wR="10800" hR="10800" stAng="0" swAng="5400000"/>
                <a:lnTo>
                  <a:pt x="0" y="188303"/>
                </a:lnTo>
                <a:arcTo wR="10800" hR="10800" stAng="16200000" swAng="5400000"/>
                <a:lnTo>
                  <a:pt x="10800" y="1991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6"/>
          <p:cNvSpPr/>
          <p:nvPr/>
        </p:nvSpPr>
        <p:spPr>
          <a:xfrm rot="5380800">
            <a:off x="4220280" y="-3890160"/>
            <a:ext cx="681120" cy="8461440"/>
          </a:xfrm>
          <a:custGeom>
            <a:avLst/>
            <a:gdLst>
              <a:gd name="textAreaLeft" fmla="*/ 240840 w 681120"/>
              <a:gd name="textAreaRight" fmla="*/ 440280 w 681120"/>
              <a:gd name="textAreaTop" fmla="*/ 240840 h 8461440"/>
              <a:gd name="textAreaBottom" fmla="*/ 8220600 h 8461440"/>
            </a:gdLst>
            <a:ahLst/>
            <a:rect l="textAreaLeft" t="textAreaTop" r="textAreaRight" b="textAreaBottom"/>
            <a:pathLst>
              <a:path w="21600" h="268203">
                <a:moveTo>
                  <a:pt x="10800" y="0"/>
                </a:moveTo>
                <a:arcTo wR="10800" hR="10800" stAng="0" swAng="5400000"/>
                <a:lnTo>
                  <a:pt x="0" y="257403"/>
                </a:lnTo>
                <a:arcTo wR="10800" hR="10800" stAng="16200000" swAng="5400000"/>
                <a:lnTo>
                  <a:pt x="10800" y="2682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990720" y="152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ell High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a0ff"/>
                </a:solidFill>
                <a:latin typeface="Arial"/>
              </a:rPr>
              <a:t>4 Pillars</a:t>
            </a: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.  District Scholarship Bulletin</a:t>
            </a: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dated monthly</a:t>
            </a: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ailable online at:</a:t>
            </a: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c61e"/>
                </a:solidFill>
                <a:latin typeface="Arial"/>
              </a:rPr>
              <a:t>https://bothell.nsd.org/counseling/college-readiness</a:t>
            </a: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 copy available in the Counseling office (when we are on campus)</a:t>
            </a: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8458200" y="304920"/>
            <a:ext cx="685800" cy="624816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248160"/>
              <a:gd name="textAreaBottom" fmla="*/ 6005880 h 6248160"/>
            </a:gdLst>
            <a:ahLst/>
            <a:rect l="textAreaLeft" t="textAreaTop" r="textAreaRight" b="textAreaBottom"/>
            <a:pathLst>
              <a:path w="21600" h="196701">
                <a:moveTo>
                  <a:pt x="10800" y="0"/>
                </a:moveTo>
                <a:arcTo wR="10800" hR="10800" stAng="0" swAng="5400000"/>
                <a:lnTo>
                  <a:pt x="0" y="185901"/>
                </a:lnTo>
                <a:arcTo wR="10800" hR="10800" stAng="16200000" swAng="5400000"/>
                <a:lnTo>
                  <a:pt x="10800" y="196701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0" y="355680"/>
            <a:ext cx="685800" cy="632448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324480"/>
              <a:gd name="textAreaBottom" fmla="*/ 6082200 h 6324480"/>
            </a:gdLst>
            <a:ahLst/>
            <a:rect l="textAreaLeft" t="textAreaTop" r="textAreaRight" b="textAreaBottom"/>
            <a:pathLst>
              <a:path w="21600" h="199103">
                <a:moveTo>
                  <a:pt x="10800" y="0"/>
                </a:moveTo>
                <a:arcTo wR="10800" hR="10800" stAng="0" swAng="5400000"/>
                <a:lnTo>
                  <a:pt x="0" y="188303"/>
                </a:lnTo>
                <a:arcTo wR="10800" hR="10800" stAng="16200000" swAng="5400000"/>
                <a:lnTo>
                  <a:pt x="10800" y="1991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6"/>
          <p:cNvSpPr/>
          <p:nvPr/>
        </p:nvSpPr>
        <p:spPr>
          <a:xfrm rot="5380800">
            <a:off x="4220280" y="-3890160"/>
            <a:ext cx="681120" cy="8461440"/>
          </a:xfrm>
          <a:custGeom>
            <a:avLst/>
            <a:gdLst>
              <a:gd name="textAreaLeft" fmla="*/ 240840 w 681120"/>
              <a:gd name="textAreaRight" fmla="*/ 440280 w 681120"/>
              <a:gd name="textAreaTop" fmla="*/ 240840 h 8461440"/>
              <a:gd name="textAreaBottom" fmla="*/ 8220600 h 8461440"/>
            </a:gdLst>
            <a:ahLst/>
            <a:rect l="textAreaLeft" t="textAreaTop" r="textAreaRight" b="textAreaBottom"/>
            <a:pathLst>
              <a:path w="21600" h="268203">
                <a:moveTo>
                  <a:pt x="10800" y="0"/>
                </a:moveTo>
                <a:arcTo wR="10800" hR="10800" stAng="0" swAng="5400000"/>
                <a:lnTo>
                  <a:pt x="0" y="257403"/>
                </a:lnTo>
                <a:arcTo wR="10800" hR="10800" stAng="16200000" swAng="5400000"/>
                <a:lnTo>
                  <a:pt x="10800" y="2682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990720" y="152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ell High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a0ff"/>
                </a:solidFill>
                <a:latin typeface="Arial"/>
              </a:rPr>
              <a:t>4 Pillars</a:t>
            </a: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.  District Scholarship Bulletin</a:t>
            </a: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8458200" y="304920"/>
            <a:ext cx="685800" cy="624816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248160"/>
              <a:gd name="textAreaBottom" fmla="*/ 6005880 h 6248160"/>
            </a:gdLst>
            <a:ahLst/>
            <a:rect l="textAreaLeft" t="textAreaTop" r="textAreaRight" b="textAreaBottom"/>
            <a:pathLst>
              <a:path w="21600" h="196701">
                <a:moveTo>
                  <a:pt x="10800" y="0"/>
                </a:moveTo>
                <a:arcTo wR="10800" hR="10800" stAng="0" swAng="5400000"/>
                <a:lnTo>
                  <a:pt x="0" y="185901"/>
                </a:lnTo>
                <a:arcTo wR="10800" hR="10800" stAng="16200000" swAng="5400000"/>
                <a:lnTo>
                  <a:pt x="10800" y="196701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0" y="355680"/>
            <a:ext cx="685800" cy="632448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324480"/>
              <a:gd name="textAreaBottom" fmla="*/ 6082200 h 6324480"/>
            </a:gdLst>
            <a:ahLst/>
            <a:rect l="textAreaLeft" t="textAreaTop" r="textAreaRight" b="textAreaBottom"/>
            <a:pathLst>
              <a:path w="21600" h="199103">
                <a:moveTo>
                  <a:pt x="10800" y="0"/>
                </a:moveTo>
                <a:arcTo wR="10800" hR="10800" stAng="0" swAng="5400000"/>
                <a:lnTo>
                  <a:pt x="0" y="188303"/>
                </a:lnTo>
                <a:arcTo wR="10800" hR="10800" stAng="16200000" swAng="5400000"/>
                <a:lnTo>
                  <a:pt x="10800" y="1991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6"/>
          <p:cNvSpPr/>
          <p:nvPr/>
        </p:nvSpPr>
        <p:spPr>
          <a:xfrm rot="5380800">
            <a:off x="4220280" y="-3890160"/>
            <a:ext cx="681120" cy="8461440"/>
          </a:xfrm>
          <a:custGeom>
            <a:avLst/>
            <a:gdLst>
              <a:gd name="textAreaLeft" fmla="*/ 240840 w 681120"/>
              <a:gd name="textAreaRight" fmla="*/ 440280 w 681120"/>
              <a:gd name="textAreaTop" fmla="*/ 240840 h 8461440"/>
              <a:gd name="textAreaBottom" fmla="*/ 8220600 h 8461440"/>
            </a:gdLst>
            <a:ahLst/>
            <a:rect l="textAreaLeft" t="textAreaTop" r="textAreaRight" b="textAreaBottom"/>
            <a:pathLst>
              <a:path w="21600" h="268203">
                <a:moveTo>
                  <a:pt x="10800" y="0"/>
                </a:moveTo>
                <a:arcTo wR="10800" hR="10800" stAng="0" swAng="5400000"/>
                <a:lnTo>
                  <a:pt x="0" y="257403"/>
                </a:lnTo>
                <a:arcTo wR="10800" hR="10800" stAng="16200000" swAng="5400000"/>
                <a:lnTo>
                  <a:pt x="10800" y="2682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990720" y="152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ell High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205000" y="2590920"/>
            <a:ext cx="496260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a0ff"/>
                </a:solidFill>
                <a:latin typeface="Arial"/>
              </a:rPr>
              <a:t>4 Pillars</a:t>
            </a: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holarship Foundation of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rthshore—Seniors Only</a:t>
            </a: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ttp://sf-ns.org/</a:t>
            </a:r>
            <a:endParaRPr b="0" lang="en-US" sz="3600" spc="-1" strike="noStrike">
              <a:solidFill>
                <a:srgbClr val="e7c61e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 completed online. Submit only one application</a:t>
            </a: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e7c6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c61e"/>
                </a:solidFill>
                <a:latin typeface="Arial"/>
              </a:rPr>
              <a:t>Application due February 15</a:t>
            </a:r>
            <a:r>
              <a:rPr b="0" lang="en-US" sz="2400" spc="-1" strike="noStrike" baseline="30000">
                <a:solidFill>
                  <a:srgbClr val="e7c61e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e7c61e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ailable for a VARIETY of student strengths (not just academic)</a:t>
            </a: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8458200" y="304920"/>
            <a:ext cx="685800" cy="624816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248160"/>
              <a:gd name="textAreaBottom" fmla="*/ 6005880 h 6248160"/>
            </a:gdLst>
            <a:ahLst/>
            <a:rect l="textAreaLeft" t="textAreaTop" r="textAreaRight" b="textAreaBottom"/>
            <a:pathLst>
              <a:path w="21600" h="196701">
                <a:moveTo>
                  <a:pt x="10800" y="0"/>
                </a:moveTo>
                <a:arcTo wR="10800" hR="10800" stAng="0" swAng="5400000"/>
                <a:lnTo>
                  <a:pt x="0" y="185901"/>
                </a:lnTo>
                <a:arcTo wR="10800" hR="10800" stAng="16200000" swAng="5400000"/>
                <a:lnTo>
                  <a:pt x="10800" y="196701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0" y="355680"/>
            <a:ext cx="685800" cy="632448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324480"/>
              <a:gd name="textAreaBottom" fmla="*/ 6082200 h 6324480"/>
            </a:gdLst>
            <a:ahLst/>
            <a:rect l="textAreaLeft" t="textAreaTop" r="textAreaRight" b="textAreaBottom"/>
            <a:pathLst>
              <a:path w="21600" h="199103">
                <a:moveTo>
                  <a:pt x="10800" y="0"/>
                </a:moveTo>
                <a:arcTo wR="10800" hR="10800" stAng="0" swAng="5400000"/>
                <a:lnTo>
                  <a:pt x="0" y="188303"/>
                </a:lnTo>
                <a:arcTo wR="10800" hR="10800" stAng="16200000" swAng="5400000"/>
                <a:lnTo>
                  <a:pt x="10800" y="1991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6"/>
          <p:cNvSpPr/>
          <p:nvPr/>
        </p:nvSpPr>
        <p:spPr>
          <a:xfrm rot="5380800">
            <a:off x="4220280" y="-3890160"/>
            <a:ext cx="681120" cy="8461440"/>
          </a:xfrm>
          <a:custGeom>
            <a:avLst/>
            <a:gdLst>
              <a:gd name="textAreaLeft" fmla="*/ 240840 w 681120"/>
              <a:gd name="textAreaRight" fmla="*/ 440280 w 681120"/>
              <a:gd name="textAreaTop" fmla="*/ 240840 h 8461440"/>
              <a:gd name="textAreaBottom" fmla="*/ 8220600 h 8461440"/>
            </a:gdLst>
            <a:ahLst/>
            <a:rect l="textAreaLeft" t="textAreaTop" r="textAreaRight" b="textAreaBottom"/>
            <a:pathLst>
              <a:path w="21600" h="268203">
                <a:moveTo>
                  <a:pt x="10800" y="0"/>
                </a:moveTo>
                <a:arcTo wR="10800" hR="10800" stAng="0" swAng="5400000"/>
                <a:lnTo>
                  <a:pt x="0" y="257403"/>
                </a:lnTo>
                <a:arcTo wR="10800" hR="10800" stAng="16200000" swAng="5400000"/>
                <a:lnTo>
                  <a:pt x="10800" y="2682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990720" y="152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ell High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a0ff"/>
                </a:solidFill>
                <a:latin typeface="Arial"/>
              </a:rPr>
              <a:t>4 Pillars</a:t>
            </a: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holarship Foundation of Northshore—Seniors Only</a:t>
            </a: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7c61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ttp://sf-ns.org/</a:t>
            </a:r>
            <a:endParaRPr b="0" lang="en-US" sz="3600" spc="-1" strike="noStrike">
              <a:solidFill>
                <a:srgbClr val="e7c61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SD students ONLY</a:t>
            </a: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2000 - $7500, some are renewable for 4 years</a:t>
            </a: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y!!!!</a:t>
            </a: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8458200" y="304920"/>
            <a:ext cx="685800" cy="624816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248160"/>
              <a:gd name="textAreaBottom" fmla="*/ 6005880 h 6248160"/>
            </a:gdLst>
            <a:ahLst/>
            <a:rect l="textAreaLeft" t="textAreaTop" r="textAreaRight" b="textAreaBottom"/>
            <a:pathLst>
              <a:path w="21600" h="196701">
                <a:moveTo>
                  <a:pt x="10800" y="0"/>
                </a:moveTo>
                <a:arcTo wR="10800" hR="10800" stAng="0" swAng="5400000"/>
                <a:lnTo>
                  <a:pt x="0" y="185901"/>
                </a:lnTo>
                <a:arcTo wR="10800" hR="10800" stAng="16200000" swAng="5400000"/>
                <a:lnTo>
                  <a:pt x="10800" y="196701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0" y="355680"/>
            <a:ext cx="685800" cy="632448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324480"/>
              <a:gd name="textAreaBottom" fmla="*/ 6082200 h 6324480"/>
            </a:gdLst>
            <a:ahLst/>
            <a:rect l="textAreaLeft" t="textAreaTop" r="textAreaRight" b="textAreaBottom"/>
            <a:pathLst>
              <a:path w="21600" h="199103">
                <a:moveTo>
                  <a:pt x="10800" y="0"/>
                </a:moveTo>
                <a:arcTo wR="10800" hR="10800" stAng="0" swAng="5400000"/>
                <a:lnTo>
                  <a:pt x="0" y="188303"/>
                </a:lnTo>
                <a:arcTo wR="10800" hR="10800" stAng="16200000" swAng="5400000"/>
                <a:lnTo>
                  <a:pt x="10800" y="1991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 rot="5380800">
            <a:off x="4220280" y="-3890160"/>
            <a:ext cx="681120" cy="8461440"/>
          </a:xfrm>
          <a:custGeom>
            <a:avLst/>
            <a:gdLst>
              <a:gd name="textAreaLeft" fmla="*/ 240840 w 681120"/>
              <a:gd name="textAreaRight" fmla="*/ 440280 w 681120"/>
              <a:gd name="textAreaTop" fmla="*/ 240840 h 8461440"/>
              <a:gd name="textAreaBottom" fmla="*/ 8220600 h 8461440"/>
            </a:gdLst>
            <a:ahLst/>
            <a:rect l="textAreaLeft" t="textAreaTop" r="textAreaRight" b="textAreaBottom"/>
            <a:pathLst>
              <a:path w="21600" h="268203">
                <a:moveTo>
                  <a:pt x="10800" y="0"/>
                </a:moveTo>
                <a:arcTo wR="10800" hR="10800" stAng="0" swAng="5400000"/>
                <a:lnTo>
                  <a:pt x="0" y="257403"/>
                </a:lnTo>
                <a:arcTo wR="10800" hR="10800" stAng="16200000" swAng="5400000"/>
                <a:lnTo>
                  <a:pt x="10800" y="2682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990720" y="152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ell High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a0ff"/>
                </a:solidFill>
                <a:latin typeface="Arial"/>
              </a:rPr>
              <a:t>4 Pillars</a:t>
            </a: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.  Washboard.org</a:t>
            </a: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7c61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up a profile that includes: interests, activities, academics and more</a:t>
            </a: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ches your profile to scholarships (70%, 90%)</a:t>
            </a: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scholarships = less specific profile</a:t>
            </a:r>
            <a:endParaRPr b="0" lang="en-US" sz="2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8458200" y="304920"/>
            <a:ext cx="685800" cy="624816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248160"/>
              <a:gd name="textAreaBottom" fmla="*/ 6005880 h 6248160"/>
            </a:gdLst>
            <a:ahLst/>
            <a:rect l="textAreaLeft" t="textAreaTop" r="textAreaRight" b="textAreaBottom"/>
            <a:pathLst>
              <a:path w="21600" h="196701">
                <a:moveTo>
                  <a:pt x="10800" y="0"/>
                </a:moveTo>
                <a:arcTo wR="10800" hR="10800" stAng="0" swAng="5400000"/>
                <a:lnTo>
                  <a:pt x="0" y="185901"/>
                </a:lnTo>
                <a:arcTo wR="10800" hR="10800" stAng="16200000" swAng="5400000"/>
                <a:lnTo>
                  <a:pt x="10800" y="196701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0" y="355680"/>
            <a:ext cx="685800" cy="632448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324480"/>
              <a:gd name="textAreaBottom" fmla="*/ 6082200 h 6324480"/>
            </a:gdLst>
            <a:ahLst/>
            <a:rect l="textAreaLeft" t="textAreaTop" r="textAreaRight" b="textAreaBottom"/>
            <a:pathLst>
              <a:path w="21600" h="199103">
                <a:moveTo>
                  <a:pt x="10800" y="0"/>
                </a:moveTo>
                <a:arcTo wR="10800" hR="10800" stAng="0" swAng="5400000"/>
                <a:lnTo>
                  <a:pt x="0" y="188303"/>
                </a:lnTo>
                <a:arcTo wR="10800" hR="10800" stAng="16200000" swAng="5400000"/>
                <a:lnTo>
                  <a:pt x="10800" y="1991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6"/>
          <p:cNvSpPr/>
          <p:nvPr/>
        </p:nvSpPr>
        <p:spPr>
          <a:xfrm rot="5380800">
            <a:off x="4220280" y="-3890160"/>
            <a:ext cx="681120" cy="8461440"/>
          </a:xfrm>
          <a:custGeom>
            <a:avLst/>
            <a:gdLst>
              <a:gd name="textAreaLeft" fmla="*/ 240840 w 681120"/>
              <a:gd name="textAreaRight" fmla="*/ 440280 w 681120"/>
              <a:gd name="textAreaTop" fmla="*/ 240840 h 8461440"/>
              <a:gd name="textAreaBottom" fmla="*/ 8220600 h 8461440"/>
            </a:gdLst>
            <a:ahLst/>
            <a:rect l="textAreaLeft" t="textAreaTop" r="textAreaRight" b="textAreaBottom"/>
            <a:pathLst>
              <a:path w="21600" h="268203">
                <a:moveTo>
                  <a:pt x="10800" y="0"/>
                </a:moveTo>
                <a:arcTo wR="10800" hR="10800" stAng="0" swAng="5400000"/>
                <a:lnTo>
                  <a:pt x="0" y="257403"/>
                </a:lnTo>
                <a:arcTo wR="10800" hR="10800" stAng="16200000" swAng="5400000"/>
                <a:lnTo>
                  <a:pt x="10800" y="2682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90720" y="152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ell High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a0ff"/>
                </a:solidFill>
                <a:latin typeface="Arial"/>
              </a:rPr>
              <a:t>When applying</a:t>
            </a:r>
            <a:r>
              <a:rPr b="0" lang="is-IS" sz="4400" spc="-1" strike="noStrike">
                <a:solidFill>
                  <a:srgbClr val="70a0ff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your time and tell your story</a:t>
            </a: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100% honest</a:t>
            </a: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 from your heart BUT have boundaries- remember, a stranger is reading this</a:t>
            </a: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7c61e"/>
              </a:solidFill>
              <a:latin typeface="Arial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8458200" y="304920"/>
            <a:ext cx="685800" cy="624816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248160"/>
              <a:gd name="textAreaBottom" fmla="*/ 6005880 h 6248160"/>
            </a:gdLst>
            <a:ahLst/>
            <a:rect l="textAreaLeft" t="textAreaTop" r="textAreaRight" b="textAreaBottom"/>
            <a:pathLst>
              <a:path w="21600" h="196701">
                <a:moveTo>
                  <a:pt x="10800" y="0"/>
                </a:moveTo>
                <a:arcTo wR="10800" hR="10800" stAng="0" swAng="5400000"/>
                <a:lnTo>
                  <a:pt x="0" y="185901"/>
                </a:lnTo>
                <a:arcTo wR="10800" hR="10800" stAng="16200000" swAng="5400000"/>
                <a:lnTo>
                  <a:pt x="10800" y="196701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0" y="355680"/>
            <a:ext cx="685800" cy="6324480"/>
          </a:xfrm>
          <a:custGeom>
            <a:avLst/>
            <a:gdLst>
              <a:gd name="textAreaLeft" fmla="*/ 242280 w 685800"/>
              <a:gd name="textAreaRight" fmla="*/ 443520 w 685800"/>
              <a:gd name="textAreaTop" fmla="*/ 242280 h 6324480"/>
              <a:gd name="textAreaBottom" fmla="*/ 6082200 h 6324480"/>
            </a:gdLst>
            <a:ahLst/>
            <a:rect l="textAreaLeft" t="textAreaTop" r="textAreaRight" b="textAreaBottom"/>
            <a:pathLst>
              <a:path w="21600" h="199103">
                <a:moveTo>
                  <a:pt x="10800" y="0"/>
                </a:moveTo>
                <a:arcTo wR="10800" hR="10800" stAng="0" swAng="5400000"/>
                <a:lnTo>
                  <a:pt x="0" y="188303"/>
                </a:lnTo>
                <a:arcTo wR="10800" hR="10800" stAng="16200000" swAng="5400000"/>
                <a:lnTo>
                  <a:pt x="10800" y="1991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 rot="5380800">
            <a:off x="4220280" y="-3890160"/>
            <a:ext cx="681120" cy="8461440"/>
          </a:xfrm>
          <a:custGeom>
            <a:avLst/>
            <a:gdLst>
              <a:gd name="textAreaLeft" fmla="*/ 240840 w 681120"/>
              <a:gd name="textAreaRight" fmla="*/ 440280 w 681120"/>
              <a:gd name="textAreaTop" fmla="*/ 240840 h 8461440"/>
              <a:gd name="textAreaBottom" fmla="*/ 8220600 h 8461440"/>
            </a:gdLst>
            <a:ahLst/>
            <a:rect l="textAreaLeft" t="textAreaTop" r="textAreaRight" b="textAreaBottom"/>
            <a:pathLst>
              <a:path w="21600" h="268203">
                <a:moveTo>
                  <a:pt x="10800" y="0"/>
                </a:moveTo>
                <a:arcTo wR="10800" hR="10800" stAng="0" swAng="5400000"/>
                <a:lnTo>
                  <a:pt x="0" y="257403"/>
                </a:lnTo>
                <a:arcTo wR="10800" hR="10800" stAng="16200000" swAng="5400000"/>
                <a:lnTo>
                  <a:pt x="10800" y="268203"/>
                </a:lnTo>
                <a:arcTo wR="10800" hR="10800" stAng="10800000" swAng="5400000"/>
                <a:lnTo>
                  <a:pt x="21600" y="10800"/>
                </a:lnTo>
                <a:arcTo wR="10800" hR="10800" stAng="5400000" swAng="5400000"/>
                <a:close/>
              </a:path>
            </a:pathLst>
          </a:custGeom>
          <a:solidFill>
            <a:srgbClr val="297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990720" y="152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ell High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19:09:09Z</dcterms:created>
  <dc:creator>Technology Department</dc:creator>
  <dc:description/>
  <dc:language>en-US</dc:language>
  <cp:lastModifiedBy>Microsoft Office User</cp:lastModifiedBy>
  <dcterms:modified xsi:type="dcterms:W3CDTF">2021-01-07T22:35:33Z</dcterms:modified>
  <cp:revision>165</cp:revision>
  <dc:subject/>
  <dc:title>PowerPoint Presentation</dc:title>
</cp:coreProperties>
</file>